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BC6-EDF7-42FD-96CE-77903488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B04-F828-4519-8C5D-53600ABE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AD9-EA51-4C6F-95BE-C390C01B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7AE-C061-4E6B-94BD-93997959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58E-5242-4321-A5FC-53DE0AD4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E71-1925-45AA-908B-6924CA50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5B4-D5D9-4800-9520-17BFA06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98C-F019-4B54-9388-799CC9B2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563-F8FD-4ADA-8EB5-8C55595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522-063F-47E6-9A74-E0CA278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5C5-EDC9-4567-A89B-9C3E7B9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F5B-57AB-44DA-B354-89E4391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4C6F-E10B-416D-AF07-78FACCB2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add narration to a slides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lide to be nar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Record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et Microph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Nar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Narration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rrent Slide or Firs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– Click – Talk –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 into the 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Pause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lack exit screen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Nar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on’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ing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soun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narration will overrid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1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4:21Z</dcterms:created>
  <dc:creator>klanders</dc:creator>
  <dc:description/>
  <dc:language>en-US</dc:language>
  <cp:lastModifiedBy>klanders</cp:lastModifiedBy>
  <dcterms:modified xsi:type="dcterms:W3CDTF">2008-01-18T21:32:06Z</dcterms:modified>
  <cp:revision>9</cp:revision>
  <dc:subject/>
  <dc:title>Adding Narration to a Slideshow</dc:title>
</cp:coreProperties>
</file>